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29E-9350-4415-938B-7DCD97DA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9BD-1F18-4474-8237-3A135CB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5D198-D021-4A1D-AA46-A52C6BF0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EC6B9-8DCF-43BA-821D-8BE224A9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DFF91-E2F5-40E8-BE05-5363F3D6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E311E-3966-48DF-95E7-756C5AD1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DED16-AC75-40FC-9DED-B70D2BD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3A6EF-E45D-4F8B-9B84-036A453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EA7E41-251D-4C48-95C3-DD5FA09A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052911-DB27-4AEB-A52B-E8CCE006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3A593-84E5-42B0-B583-00C2E8ED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17DA0-7A82-4E5F-B1AB-62A73BB4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006-74A3-4B29-B675-EAAD8505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6152C-549D-4862-BC25-0F83B80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07439A-729F-4CE1-A196-54236D01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033D9-FC59-48C2-BE59-BE813031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F60EB-763D-44BB-AB86-2BC0D37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4729D-07AB-4970-88AD-DBBD2DC8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08093-E699-4340-90EB-956DD6C2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7F342-895C-4C44-A889-B8E3BEC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97D27-1180-4F94-AEA0-AB5F931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F4C0C-0947-4E26-9C86-929B0E7A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86698-0ACE-44E3-8C5A-B9E1000B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C4E-32A3-45F7-A504-59CA4D1B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0694E-9335-4E42-8E9E-A1FA6D04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C85BD-37AE-4D83-A0E3-0117368D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E5BC-5D1B-4B7D-8ABE-2DAEB4A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51CF9-CD20-4371-8052-910B6FA4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E565F-ED5F-4E89-B67E-C380E3E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DD6C-89D5-4242-B952-506B7E8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49910-8B9F-45D4-8D72-3FD6AB1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FFFF9-B19A-4B26-BA43-273397C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E7FAA-3431-4264-A10B-5A007135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C6532-E064-4390-8ED3-EB462F9E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BC18-DEC4-4B5C-B36D-11EDB1F4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9C06-E072-41EE-96FE-FE3AC71D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BD55-784D-4E16-A46A-0378CE20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6EB15-69D2-4E73-BB84-F7D6E4D4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C6523-5B2F-41EC-9DEE-A3A878C5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61300-2353-4759-A3EC-797D9F97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70C03-7CA3-4E7D-BFA7-9B16AD32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DA852-8F56-4B16-9D83-E9BB8D67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AE8749-9126-42B2-8388-C515F505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E454B-3100-4B9F-9D99-6641C6C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BA1B8-D6ED-4828-BB55-5923E14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777-4208-403C-843E-E1091213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430F1-0216-41D8-A698-E51C1098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C9EBF-C5AF-423E-895A-24ED83C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884BC0-46D3-459E-93C9-8259F45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07A6A-68E9-4D80-9336-21C0ED4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8F803-981F-41AB-AE30-7D3ABBD3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FA03-EA73-4368-BEE0-F8368D3F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A68A-DAB5-4EA1-BADB-571F452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D454-7F27-4ED3-A5B2-ADDD6566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5490-2CA4-4612-A6B9-80B7A05B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EF52-BE6B-4DE6-9FAF-2756F6A3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64A-B56C-49F3-9F51-0BBC9CC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A1E-94E0-477B-BD47-C25B0F7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431D-EE9D-4F01-93D6-EE0559C4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BE7A-CD5F-4345-8E1A-F6F658E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A190-374D-4AC5-9185-4448F291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22C4-518A-4B16-9ACC-C733F40B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08AC-E5CD-4C1E-946D-D3E48E97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0AE6-536C-4A13-B0C4-CC4741DD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B4E1-5B07-497E-A678-911C30C8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B67B-FAD4-46A9-B91D-43A96EF9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6C39-E5BD-4663-A64E-F1A51E3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8E6-FF65-437A-92FB-67ACB402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DDFC-6316-4857-8167-EA16791F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6527-B0E8-445E-A265-9B2E9E3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B435-4120-4404-8649-C6F24FF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B3CB-8D4D-45E7-B053-1595D04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C4CFA-088C-4A58-AFBB-23241B7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3E69-7D49-4E20-8310-A7359306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8F0B7-36EE-487B-9C9E-2BFC899E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CDE3-FD21-4081-9B92-611D3D42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D9B3-B071-4212-BD09-42200429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4AB0A-1529-4E13-97CC-C41E052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EDC3-4269-4E24-BD1D-564FEBA3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D0FC3-527C-49B9-94CF-FDF29FFF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5E5D9-0A96-4AF4-B4BE-49B79DDB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55247-7035-447A-8C58-0C74659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77AB-FAFC-40AD-A388-D0015B4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783D-C427-483B-A1CD-C641F78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41086-1ED0-4F01-A6FC-417C70D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FDFD-1FF4-4698-9ED3-4314F82E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B222A-F9E5-4E40-8FF6-C84A8833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6E9D-C433-481A-A7E4-95EDA2F0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20FA-36FD-4306-BE28-447D2C6A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74D4-277C-479B-B934-866192A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5EF6-2F40-4DA6-AC75-C2CA806A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5622-6E2A-4FA6-84D7-28C39CE8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8A1A-7DDA-4770-8AB8-63A17C47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4787D-6A8A-4F3A-9684-3D05CA9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DF6E5-8291-4E45-807B-780FB6F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C8CF-DB8F-460A-A52D-CF87FF47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08241-393C-4D69-8182-0E92044F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32A8E-A544-4087-A8B1-DF89283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F57A6-4B02-4F34-A1BA-CDA0AA8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23DB-FD27-4D4F-ABC3-34150F2C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6EB-9CB2-44ED-A1DA-F776764D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B8CF-B430-4028-BE26-E63A274C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C52C-663A-4BDB-95B8-6D6832DB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512D-5C4A-47C7-B961-D193A046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D1779-A78A-4C5F-93AB-C5CF4967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2B808-B1AA-4DDA-8750-6CE27CA3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22C5-599D-4A1F-A7EF-52E0212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33F96-1F75-4465-B9BF-A824D486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973B-F5BD-40B7-9E6E-C61D10C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72AF-88AF-4BB0-9A0E-780E08C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C5590-6CF7-4FD2-9240-84F383D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70E-EAAA-40F0-9F1F-92AB6670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62448-364D-44A5-8424-2D324455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8F26E-7983-4B9A-AA6A-1DA8369A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FC129-6EAD-4540-B25A-25573A00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8F95-76B1-481C-A00D-1FF35D8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A25E7-8DF3-4EED-B48E-5FD33ED1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09CCD-B76A-44BE-BA23-C60D0E90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7844D-0ADD-46B0-99DB-F446561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786E8-F8C1-40E6-A5EF-E0DFDA63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7520-38C8-4482-9A95-72099FF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C1F5-47D2-4188-8FB1-A7BBA4A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532-D6E8-4DEB-BFF3-CE236101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657C-D06E-4127-82E5-1E27D3F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F218F-05A0-4A36-951D-2CA46AD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336F3-CA5C-4903-9632-5DFABC7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05BA-D337-4603-ABD3-8D761CA7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26A3-D227-45E1-B214-915FAA3A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F94E7-252B-486C-976E-A184B50A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76EA-3CD7-4C01-964D-29CD5D2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E88C-D0FF-4B1D-9748-76A282D6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8756B-145E-405B-BCFD-8FAD737A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47848-805B-4C61-A388-C7347F5A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FD0-266B-4A5A-BBCE-AA2AD21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0335-4807-485A-AA56-7AC9103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E089C-5718-4D08-AEA1-4DE855AA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C505-DAF8-458D-A7DF-ABB3725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59121-CFD2-4752-9E01-9587B8D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E5731-4FD0-4F00-B6BD-8A59294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9E39-5E9F-450B-BC00-872E6D37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62B5-6DA1-46B2-9A90-D45DD15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1FCF9-D14A-4BA5-99C6-5414D17A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4A12A-971A-47A8-A1D4-B3164D0A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731A6-C15F-46E7-81AD-55E047A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493-9D20-41AF-99F2-B2846D61E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AE45-5F76-4820-815A-D9F9AA17BA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69E-0FCA-45E0-837D-75DB0165D9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C53-8CD9-42B7-96F9-7ACD0A2695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10CD-D265-48EF-A927-E0187FCB6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2DA0-4D8F-4CF8-B72C-3007E5A591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F0DD-EB3D-4A51-8CC5-947015199E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570-7EAB-4A3E-9908-66BC22307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4C96-0EE3-4CEC-8C37-F0342D56EF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378F-9A79-4DF8-9ABD-5248B85A33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2964-04A7-48D3-9E3F-E1D91079A9F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ADAD-126B-4660-82FD-90CC9EC28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7f7f"/>
                </a:solidFill>
                <a:latin typeface="Georgia"/>
              </a:rPr>
              <a:t>1</a:t>
            </a:r>
            <a:r>
              <a:rPr b="1" lang="en-US" sz="4800" spc="-1" strike="noStrike" baseline="30000">
                <a:solidFill>
                  <a:srgbClr val="7f7f7f"/>
                </a:solidFill>
                <a:latin typeface="Georgia"/>
              </a:rPr>
              <a:t>st</a:t>
            </a:r>
            <a:r>
              <a:rPr b="1" lang="en-US" sz="4800" spc="-1" strike="noStrike">
                <a:solidFill>
                  <a:srgbClr val="7f7f7f"/>
                </a:solidFill>
                <a:latin typeface="Georgia"/>
              </a:rPr>
              <a:t> Quarter Reflection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282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class is ____________________________________(harder, easier or about what I expected)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socialize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complete homework on tim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studie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typically wait until the night before a test to study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ask questions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u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oug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enough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feel comfortable asking Mrs. Cummins for help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pay attention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think I did my best work during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y parents will think I did my best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rs. Cummins thinks I did my best the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y grades represent what I have learned in clas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 learned best when I was able to  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I had the quarter to do over again, I would 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the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quarter, I have decided to  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b5064"/>
                </a:solidFill>
                <a:latin typeface="Georgia"/>
              </a:rPr>
              <a:t>2</a:t>
            </a:r>
            <a:r>
              <a:rPr b="1" lang="en-US" sz="4400" spc="-1" strike="noStrike" baseline="30000">
                <a:solidFill>
                  <a:srgbClr val="4b5064"/>
                </a:solidFill>
                <a:latin typeface="Georgia"/>
              </a:rPr>
              <a:t>nd</a:t>
            </a:r>
            <a:r>
              <a:rPr b="1" lang="en-US" sz="4400" spc="-1" strike="noStrike">
                <a:solidFill>
                  <a:srgbClr val="4b5064"/>
                </a:solidFill>
                <a:latin typeface="Georgia"/>
              </a:rPr>
              <a:t> Quarter Reflection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:  _________________________                      DATE: 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quarter, I had decided to  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have/have not followed through with this decision due to 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my behavior this semester is 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my completion of homework is 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biggest change I need to make in studying for tests is 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ents:  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40120" indent="-240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b9899"/>
                </a:solidFill>
                <a:latin typeface="Georgia"/>
              </a:rPr>
              <a:t>Student Response Systems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2:50:46Z</dcterms:created>
  <dc:creator>mmiddleton</dc:creator>
  <dc:description/>
  <dc:language>en-US</dc:language>
  <cp:lastModifiedBy>mmiddleton</cp:lastModifiedBy>
  <dcterms:modified xsi:type="dcterms:W3CDTF">2011-02-11T13:17:15Z</dcterms:modified>
  <cp:revision>6</cp:revision>
  <dc:subject/>
  <dc:title>Slide 1</dc:title>
</cp:coreProperties>
</file>